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AD9-AA35-4B30-8FC8-1CA54CC8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18F-73C8-4C31-A454-3D7F6292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A63-9F4B-423E-B0A5-E82A020E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6A6-3BF7-4BBC-AEB7-537F9F82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E1AB-90EA-4C7E-B281-3B205E85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6E90-5472-4C47-BF79-DA94F94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C15D-FF49-465E-BF4F-5968DCFC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002A-4884-47E4-AD03-0EA09DE0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5211-54B8-43B6-BFEF-4DC6F650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E320-1893-4376-82C7-533935EB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9C71-A141-4813-A27F-AC34AB15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3F4-8564-4ED0-8632-EEA80E5C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B923-EC90-4587-9049-54F96790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8138-FD37-484D-96BB-1DE99BA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7B82-2E3E-4F2E-A659-B79D1490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6501-42E5-463F-8D92-39F8AAF6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C12F-CD60-4D17-BEE8-6DB3EF9A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8A1-7659-4BC3-87E0-C4D19A60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15F-96EE-4592-8866-DCC450C1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752-03A4-4678-A213-A6605793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14C-E9EE-4A3F-8E1E-40E99ED1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550-8109-4A0A-80E6-23729A6A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38E-8388-47AC-AFC2-93BD9821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FAD-EF47-4D3E-8B0D-99793EC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FDF2-3BCE-4DE4-BBCC-5950B1F022A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0BEA-1F69-496B-BEA4-C43646BAAA0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ingular and Plural Nou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ingular Nou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nouns name </a:t>
            </a: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erson, place, thing, or animal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g               bench                    gir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t                 kite                       bo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use           park                      gla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r                couch                   hear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eacher         dish                      wis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lural Nouns with Suffix -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lural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uns name </a:t>
            </a: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more than on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erson, place, thing, or animal.  Add suffix -s to most singular nouns to make them plural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g-dog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house-house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bug-bug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k-park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teacher-teacher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boy-boy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air-chair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book-book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pencil-pencil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lural Nouns with Suffix -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make singular nouns that end with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, ch, sh, or x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lural, add suffix -es to the word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ush-bush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church-church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lass-glass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fox-fox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ish-wish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couch-couch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ox-box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class-class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6:45:09Z</dcterms:created>
  <dc:creator>GCSD</dc:creator>
  <dc:description/>
  <dc:language>en-US</dc:language>
  <cp:lastModifiedBy>teacher</cp:lastModifiedBy>
  <dcterms:modified xsi:type="dcterms:W3CDTF">2010-09-28T22:24:05Z</dcterms:modified>
  <cp:revision>2</cp:revision>
  <dc:subject/>
  <dc:title>Singular and Plural Nouns</dc:title>
</cp:coreProperties>
</file>